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37B5-47F4-4067-BBAC-8C6F9AA25620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5BBF-1670-47AA-A5CA-0F8F65CDCB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DAB0-5536-461A-B26A-D310046055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B84-BBE6-41E3-BCB5-8A8AE714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8CB0-EE81-4B93-B452-9BD20C61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B8F-FDAF-4A60-99E9-9631C665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10A-2E4D-4CE3-8251-D8B94088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1D69-36CC-42E9-B556-2612E3DF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245C-9462-40C4-8F1D-1BD8D119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8DAA-7596-4808-A42F-21E15336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2E33-2AE2-41B1-A2FF-9AFC5E77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D62F-D806-43D0-ACCB-F4E7FD11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7D49-6CA4-451D-870D-EB816185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B0DD-BAF7-45F6-836A-6DB2C6E2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4A40-B8B4-47C7-91BF-909EA0AD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D9B7-B8C5-4E3D-AFDD-2AEE6E5B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E617-D1A0-4606-ACEB-7DE17AC5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2055-44EA-47E9-827A-3DE66643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9293-BD9E-4658-9654-19DE9234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AC3C-F623-4F6B-A0B4-BF866A92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404B8-47E9-461F-A30B-C4764236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A246F-5B13-48FD-BEB1-AC814FDE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FC9EF-A7EE-493E-BC96-2EA1B4D7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6D6D8-09D3-47AF-8949-0D1E3983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61031-3B76-47A9-BF52-96E7BFCF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0506-EE36-4249-AEB8-46ED9996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B7318-7693-459C-95E4-D86D1A70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8ABB4-A6A2-4B63-9775-B1B77552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807CE-15CE-4682-A69A-5D34AC99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AFDB8-963D-4FF4-BDFE-414606AF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4A6B1-79C6-4641-82CB-19883106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4EC01-DB71-4D77-AA6A-F48ABC0C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B8625-EB8A-442A-8EF0-44FE4248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6F664-2CF0-4188-B880-D3ECB66B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FC123-040F-40CC-AC8A-5B69A6F1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2F7DD-2FD0-4ED5-9F18-1E521A50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53F-4151-442B-BB07-D907234C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21732-4213-43DD-888D-3D847474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3A973-3C1D-42DC-8C8F-7D94F609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50CCA-FB06-4BB7-866B-5462CCCE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09B97-AB11-4C72-9C93-FD25DE2E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28E8B-8D5B-4F1F-B11A-B4188196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2455C-F1D5-4D8B-B594-B993F79C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1642A-8CEF-4E0F-BBED-96DD1576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260E7-41AE-4969-92B1-BF4D9C24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76629-39E3-4FF3-9470-3991ED81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E60-4851-4733-8251-7D17D49C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5B89-FCB6-41BD-BB1B-75E47D74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DD8-5EBA-4ED6-8C3E-B1010B82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3B8F-515A-4E21-8786-A2C8A708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703F-34B7-4F0B-AAF9-616A6715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59B2-C9B1-476D-898A-946A1F01A147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BFE1-A16B-4C9D-AB04-04EA8775657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5500-E638-4E81-A8B2-6CEDBDE22752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C877-0324-412C-96E6-B540457AAF3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B07A-4760-4EBC-9267-53F0D7910E6B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740C-BCA9-4097-B229-2477686B007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9A8E-E44E-46DC-A863-DAF9EF82991A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BBD2-907F-4304-994F-DA778080C51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J Developm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TextBox 3" descr=""/>
          <p:cNvPicPr/>
          <p:nvPr/>
        </p:nvPicPr>
        <p:blipFill>
          <a:blip r:embed="rId3"/>
          <a:stretch/>
        </p:blipFill>
        <p:spPr>
          <a:xfrm>
            <a:off x="2664000" y="4413240"/>
            <a:ext cx="37432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to calculate volu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volume of a cylinder that has a radius of 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60496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π ×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× 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0496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ce a cylinder is a prism, the volume =  base area × he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1" name="Magnetic Disk 3"/>
          <p:cNvGrpSpPr/>
          <p:nvPr/>
        </p:nvGrpSpPr>
        <p:grpSpPr>
          <a:xfrm>
            <a:off x="615960" y="2554200"/>
            <a:ext cx="2048040" cy="3956040"/>
            <a:chOff x="615960" y="2554200"/>
            <a:chExt cx="2048040" cy="3956040"/>
          </a:xfrm>
        </p:grpSpPr>
        <p:pic>
          <p:nvPicPr>
            <p:cNvPr id="232" name="Magnetic Disk 3" descr=""/>
            <p:cNvPicPr/>
            <p:nvPr/>
          </p:nvPicPr>
          <p:blipFill>
            <a:blip r:embed="rId2"/>
            <a:stretch/>
          </p:blipFill>
          <p:spPr>
            <a:xfrm>
              <a:off x="615960" y="2554200"/>
              <a:ext cx="204804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85800" y="3860640"/>
              <a:ext cx="190512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4" name="Straight Arrow Connector 4"/>
          <p:cNvCxnSpPr/>
          <p:nvPr/>
        </p:nvCxnSpPr>
        <p:spPr>
          <a:xfrm>
            <a:off x="1600200" y="3123720"/>
            <a:ext cx="991440" cy="25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5" name="Straight Arrow Connector 5"/>
          <p:cNvCxnSpPr/>
          <p:nvPr/>
        </p:nvCxnSpPr>
        <p:spPr>
          <a:xfrm>
            <a:off x="1635480" y="3862080"/>
            <a:ext cx="3960" cy="25405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headEnd len="med" type="arrow" w="med"/>
            <a:tailEnd len="med" type="arrow" w="med"/>
          </a:ln>
        </p:spPr>
      </p:cxnSp>
      <p:sp>
        <p:nvSpPr>
          <p:cNvPr id="236" name="TextBox 11"/>
          <p:cNvSpPr/>
          <p:nvPr/>
        </p:nvSpPr>
        <p:spPr>
          <a:xfrm>
            <a:off x="1828800" y="2819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1066680" y="4800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alc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tal amount of water needed for entire villag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263 ± 2 L × 4 ± 1 people × 50 families × 14 days =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736 400 ± 26% L = 736 400 ± 200 000 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olume of storage tank: 736 400 ± 200 000 L of water = 736.4 ± 200 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way, both the different sizes of family and different consumption of water are accounted f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ximum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756.4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around 757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nimum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16.4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around 717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Best Choice (Max. Volume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28600" y="1676520"/>
          <a:ext cx="8686800" cy="4871880"/>
        </p:xfrm>
        <a:graphic>
          <a:graphicData uri="http://schemas.openxmlformats.org/drawingml/2006/table">
            <a:tbl>
              <a:tblPr/>
              <a:tblGrid>
                <a:gridCol w="911160"/>
                <a:gridCol w="1100160"/>
                <a:gridCol w="884160"/>
                <a:gridCol w="1219320"/>
                <a:gridCol w="1112760"/>
                <a:gridCol w="1127160"/>
                <a:gridCol w="1285920"/>
                <a:gridCol w="1046160"/>
              </a:tblGrid>
              <a:tr h="4428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adius 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se Area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ight 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 of Height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st of Metal 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crete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crete Cost 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 Cost 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0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1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283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4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1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57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949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13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4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857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926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7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4428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78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706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143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8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</a:tr>
              <a:tr h="4431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8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2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38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164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6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3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2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699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989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6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3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6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338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619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1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9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279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053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73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4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8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480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6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291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7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4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1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916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9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4334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5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adius vs. Height vs. Total Co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935000"/>
          <a:ext cx="8229600" cy="4610160"/>
        </p:xfrm>
        <a:graphic>
          <a:graphicData uri="http://schemas.openxmlformats.org/drawingml/2006/table">
            <a:tbl>
              <a:tblPr/>
              <a:tblGrid>
                <a:gridCol w="2209680"/>
                <a:gridCol w="2895840"/>
                <a:gridCol w="3124080"/>
              </a:tblGrid>
              <a:tr h="41940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adius 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ight 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 Cost (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0.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9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0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.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2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1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7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6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7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9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4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35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est Choice (Min. Volume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52280" y="1905120"/>
          <a:ext cx="8747280" cy="4647960"/>
        </p:xfrm>
        <a:graphic>
          <a:graphicData uri="http://schemas.openxmlformats.org/drawingml/2006/table">
            <a:tbl>
              <a:tblPr/>
              <a:tblGrid>
                <a:gridCol w="914400"/>
                <a:gridCol w="1067040"/>
                <a:gridCol w="914400"/>
                <a:gridCol w="1295280"/>
                <a:gridCol w="1219320"/>
                <a:gridCol w="1050840"/>
                <a:gridCol w="1295280"/>
                <a:gridCol w="990720"/>
              </a:tblGrid>
              <a:tr h="4302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adius 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se Area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ight 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 of Height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st of Metal 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crete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crete Cost 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 Cost 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8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3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163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4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0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7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17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389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13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9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78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483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926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8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26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143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8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6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14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164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3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3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9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12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989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5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3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4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178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619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7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1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9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139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053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7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4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9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355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6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291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6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4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3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804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9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4334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5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adius vs. Height vs. Total Co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57200" y="1935000"/>
          <a:ext cx="8229600" cy="44578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ximum 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nimum 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adius (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ight (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st (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ight (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st (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1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0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4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9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8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5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6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3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6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5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9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7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73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7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7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5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5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2209320"/>
            <a:ext cx="777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iability vs. C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 it really that good to have a 26± 1m structur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 it </a:t>
            </a:r>
            <a:r>
              <a:rPr b="0" i="1" lang="en-GB" sz="2400" spc="-1" strike="noStrike">
                <a:solidFill>
                  <a:srgbClr val="000000"/>
                </a:solidFill>
                <a:latin typeface="Constantia"/>
              </a:rPr>
              <a:t>possibl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to have a 26 ±1m structure that will hold its weight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mount of water used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eway for water use of people in case they need more wa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Level of Accuracy (nearest whole number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sier to see the difference between fig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the cheapest cost, the height of the cylinder will be at least 25m, which is too hig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ter press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stability, if the radius is 1m larger, the height goes down by almost 10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ability, pressure distrib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Content Placeholder 3" descr="watertank.jpg"/>
          <p:cNvPicPr/>
          <p:nvPr/>
        </p:nvPicPr>
        <p:blipFill>
          <a:blip r:embed="rId2"/>
          <a:srcRect l="-5907" t="0" r="-5907" b="0"/>
          <a:stretch/>
        </p:blipFill>
        <p:spPr>
          <a:xfrm>
            <a:off x="457200" y="1920960"/>
            <a:ext cx="403848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r Storage Tan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s a capacity of 7437 000 ± 200 000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s in the shape of a cylin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imens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adius: 4 met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eight: 14.5 ± 0.5  met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st: $14700 ± 1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1240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did we get our number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Base area: π × r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eight: Volume needed (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) ÷ base are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tal surface area: 2πr(r+h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st of metal: $ (14 × total surface are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olume of concrete: (radius + 0.5m)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× 0.2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st of concrete: $ (640 × volume of concre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tal cost: $ (Cost of metal + cost of concre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r Pro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Resear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solid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nsw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5" descr=""/>
          <p:cNvPicPr/>
          <p:nvPr/>
        </p:nvPicPr>
        <p:blipFill>
          <a:blip r:embed="rId2"/>
          <a:stretch/>
        </p:blipFill>
        <p:spPr>
          <a:xfrm>
            <a:off x="476280" y="1311120"/>
            <a:ext cx="7832520" cy="14925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art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kind of grain are we stori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w much grain are we putting in storag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kind of shape is the best for storing the gra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kind of grain are we stori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ain can be used to make many types of f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ce, corn, oats, ry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e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our purposes, we’ll pretend that we’re storing r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 much grain are we putting in storag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e space that the cooked rice takes up is 3-4 times the space that uncooked rice takes up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person eats about 3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cooked rice per me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cooked rice ≈ 10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uncooked 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kind of shape is best for storing the gra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eal life ex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ylinder has the largest area for a fixed perime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ylinders are also used for sil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Examples of Grain Stor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Content Placeholder 10" descr="silos and lorry.JPG"/>
          <p:cNvPicPr/>
          <p:nvPr/>
        </p:nvPicPr>
        <p:blipFill>
          <a:blip r:embed="rId2"/>
          <a:srcRect l="0" t="-17698" r="0" b="-17698"/>
          <a:stretch/>
        </p:blipFill>
        <p:spPr>
          <a:xfrm>
            <a:off x="457200" y="1920960"/>
            <a:ext cx="4038480" cy="4433760"/>
          </a:xfrm>
          <a:prstGeom prst="rect">
            <a:avLst/>
          </a:prstGeom>
          <a:ln w="0">
            <a:noFill/>
          </a:ln>
        </p:spPr>
      </p:pic>
      <p:pic>
        <p:nvPicPr>
          <p:cNvPr id="272" name="Content Placeholder 11" descr="hog grain storage.jpg"/>
          <p:cNvPicPr/>
          <p:nvPr/>
        </p:nvPicPr>
        <p:blipFill>
          <a:blip r:embed="rId3"/>
          <a:srcRect l="0" t="-24477" r="0" b="-24477"/>
          <a:stretch/>
        </p:blipFill>
        <p:spPr>
          <a:xfrm>
            <a:off x="4648320" y="1920960"/>
            <a:ext cx="4038480" cy="44337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8"/>
          <p:cNvSpPr/>
          <p:nvPr/>
        </p:nvSpPr>
        <p:spPr>
          <a:xfrm>
            <a:off x="685800" y="57913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dengie-crops.com/media/silos%20and%20lorry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4724280" y="562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mawaterquality.org/gallery/photos/hog%20grain%20storag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alc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1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uncooked rice × 3 meals × 4 people × 50 families × 14 days = 840 000 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f uncooked 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840 0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= 0.84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ed has to have a volume of 0.84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ound to 1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Best Choice for Grain Stor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1935000"/>
          <a:ext cx="8229600" cy="446580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3924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adi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se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ircum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 of H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st of Me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c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crete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7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7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7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609840" y="-360"/>
            <a:ext cx="15238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560" y="518148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ith radius of 0.2 the height have to be 8 to hold 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0.84m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onstantia"/>
              </a:rPr>
              <a:t>3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2819160" cy="3352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"/>
          <p:cNvPicPr/>
          <p:nvPr/>
        </p:nvPicPr>
        <p:blipFill>
          <a:blip r:embed="rId3"/>
          <a:stretch/>
        </p:blipFill>
        <p:spPr>
          <a:xfrm>
            <a:off x="4267080" y="1676520"/>
            <a:ext cx="3667320" cy="32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4114800" y="5181480"/>
          <a:ext cx="4267080" cy="137160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have a structure with stability have to be radius of 0.3 and height of 3.5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088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ving a same cost stability will be bet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o having lower height with longer radius is safer to hold the weigh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t has plenty of space to put in a lot of gra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many people in a famil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61 children born/woman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(CIA World Factboo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und 2.61 children to 3 childr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d 2 par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quals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people in a family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ever, our group mostly has 4 people in each family, s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4 ± 1 people in a family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r Grain Sil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 cylindri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s a capacity of 1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imens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s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 metal sheet: $100 ± 10 ($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97.3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 concrete: $150 ± 10 ($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44.8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tal cost: $250 ± 20 ($242.1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굴림"/>
              </a:rPr>
              <a:t>Work cit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Where we got the amount of food and water per person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Constantia"/>
              </a:rPr>
              <a:t>http://www.newsobserver.com/weather/drought/story/1016009.html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1 Dec. 2008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&lt;http://www.newsobserver.com/weather/drought/story/1016009.html&gt;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굴림"/>
              </a:rPr>
              <a:t>: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Constantia"/>
              </a:rPr>
              <a:t>https://www.cia.gov/library/publications/the-world-factbook/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1 Dec. 2008 &lt;https://www.cia.gov/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library/publications/the-world-factbook/&gt;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굴림"/>
              </a:rPr>
              <a:t>Where we got the image of grain stor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굴림"/>
              </a:rPr>
              <a:t>: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Constantia"/>
              </a:rPr>
              <a:t>http://www.dengie-crops.com/media/silos%20and%20lorry.JPG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1 Dec. 2008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&lt;http://www.dengie-crops.com/media/silos%20and%20lorry.JPG&gt;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Constantia"/>
              </a:rPr>
              <a:t>http://www.mawaterquality.org/gallery/photos/hog%20grain%20storage.jpg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1 Dec. 2008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&lt;http://www.mawaterquality.org/gallery/photos/hog%20grain%20storage.jpg&gt;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3" descr=""/>
          <p:cNvPicPr/>
          <p:nvPr/>
        </p:nvPicPr>
        <p:blipFill>
          <a:blip r:embed="rId2"/>
          <a:stretch/>
        </p:blipFill>
        <p:spPr>
          <a:xfrm>
            <a:off x="476280" y="1311120"/>
            <a:ext cx="7832520" cy="1492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art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 much water does each person us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do we use water fo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is the best shape to store water 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do we use water fo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in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t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shing (dishes, laundr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il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2286000"/>
            <a:ext cx="7770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 much water does an average person us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ternet resear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69.3 gallons per person for indoor purposes 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laundry, shower, toilets, cooking, drink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vert into lit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 gallon = 3.78541178 litr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69.3 gallons ≈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ＭＳ ゴシック"/>
              </a:rPr>
              <a:t>263 lit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ＭＳ ゴシック"/>
              </a:rPr>
              <a:t>Leeway: 263 ± 2 lit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is the best shape to store water 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rimeter and Circumference vs. Area (of 2-D object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ircle vs. Squa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al life exam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 cylinder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s the best shape to store water 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Content Placeholder 5" descr="{72ED8FC0-2FE1-4FAB-AAE2-484FF1A30A82}.JPG"/>
          <p:cNvPicPr/>
          <p:nvPr/>
        </p:nvPicPr>
        <p:blipFill>
          <a:blip r:embed="rId2"/>
          <a:srcRect l="-19287" t="0" r="-19287" b="0"/>
          <a:stretch/>
        </p:blipFill>
        <p:spPr>
          <a:xfrm>
            <a:off x="4648320" y="1920960"/>
            <a:ext cx="403848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to calculate Surface Are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urface area of a cylinder is calculated b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776680" indent="-355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los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(2πrh) + (2π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4300560" indent="-2700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= 2πr(r+h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2776680" indent="-355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pe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2πrh + π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76680" indent="-355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r = radius of the cylinder’s base circ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76680" indent="-355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 = the height of the cylin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2" name="Magnetic Disk 6"/>
          <p:cNvGrpSpPr/>
          <p:nvPr/>
        </p:nvGrpSpPr>
        <p:grpSpPr>
          <a:xfrm>
            <a:off x="615960" y="2554200"/>
            <a:ext cx="2048040" cy="3956040"/>
            <a:chOff x="615960" y="2554200"/>
            <a:chExt cx="2048040" cy="3956040"/>
          </a:xfrm>
        </p:grpSpPr>
        <p:pic>
          <p:nvPicPr>
            <p:cNvPr id="223" name="Magnetic Disk 6" descr=""/>
            <p:cNvPicPr/>
            <p:nvPr/>
          </p:nvPicPr>
          <p:blipFill>
            <a:blip r:embed="rId2"/>
            <a:stretch/>
          </p:blipFill>
          <p:spPr>
            <a:xfrm>
              <a:off x="615960" y="2554200"/>
              <a:ext cx="204804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85800" y="3860640"/>
              <a:ext cx="190512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5" name="Straight Arrow Connector 8"/>
          <p:cNvCxnSpPr/>
          <p:nvPr/>
        </p:nvCxnSpPr>
        <p:spPr>
          <a:xfrm>
            <a:off x="1600200" y="3123720"/>
            <a:ext cx="991440" cy="25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6" name="Straight Arrow Connector 10"/>
          <p:cNvCxnSpPr/>
          <p:nvPr/>
        </p:nvCxnSpPr>
        <p:spPr>
          <a:xfrm>
            <a:off x="1635480" y="3862080"/>
            <a:ext cx="3960" cy="25405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headEnd len="med" type="arrow" w="med"/>
            <a:tailEnd len="med" type="arrow" w="med"/>
          </a:ln>
        </p:spPr>
      </p:cxnSp>
      <p:sp>
        <p:nvSpPr>
          <p:cNvPr id="227" name="TextBox 11"/>
          <p:cNvSpPr/>
          <p:nvPr/>
        </p:nvSpPr>
        <p:spPr>
          <a:xfrm>
            <a:off x="1828800" y="2819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2"/>
          <p:cNvSpPr/>
          <p:nvPr/>
        </p:nvSpPr>
        <p:spPr>
          <a:xfrm>
            <a:off x="1066680" y="4800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0:10:14Z</dcterms:created>
  <dc:creator>Cara Leong</dc:creator>
  <dc:description/>
  <dc:language>en-US</dc:language>
  <cp:lastModifiedBy>Cara Leong</cp:lastModifiedBy>
  <dcterms:modified xsi:type="dcterms:W3CDTF">2008-12-03T11:49:33Z</dcterms:modified>
  <cp:revision>24</cp:revision>
  <dc:subject/>
  <dc:title>Storage Facilities</dc:title>
</cp:coreProperties>
</file>